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D07-4FCD-4139-9838-4B4A590D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2F8-D86A-4C97-8178-3B3C05E8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811-F677-4562-90D1-4865A021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5DBC-E5F0-487F-9CCB-D9EB118B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6EE-36F7-4D81-B0E8-C61E9A56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A29-4699-4139-B96F-3C714122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782-09E8-4889-A17B-D738B49F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470-147D-46C0-BF48-A2075112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BAE1-EFD2-4CFB-8FF2-4D71A2FA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CB8-B71B-48C2-9FF4-D5EE798A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E07-078A-4DDC-94E4-23E7BE71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A04A-CE78-4D50-9640-B050D684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AFFF-69A9-444D-992F-BD4BBDC32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id</a:t>
            </a: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ência de bactérias multirresistentes em enfermarias de um hospital terciário de ensino em São Pau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Hospital São Paulo – Universidade Federal de Sã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Souza ME, Coutinho RL, França DHT, Escudero DVS, Furtado GH, Medeiros E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2.unifesp.br/humanas/home/images/misc/unifesp_logo.jpg"/>
          <p:cNvPicPr/>
          <p:nvPr/>
        </p:nvPicPr>
        <p:blipFill>
          <a:blip r:embed="rId1"/>
          <a:stretch/>
        </p:blipFill>
        <p:spPr>
          <a:xfrm>
            <a:off x="7162920" y="5638680"/>
            <a:ext cx="1904760" cy="1141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98568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ww2.unifesp.br/humanas/home/images/misc/unifesp_logo.jpg"/>
          <p:cNvPicPr/>
          <p:nvPr/>
        </p:nvPicPr>
        <p:blipFill>
          <a:blip r:embed="rId1"/>
          <a:stretch/>
        </p:blipFill>
        <p:spPr>
          <a:xfrm>
            <a:off x="7491240" y="5867280"/>
            <a:ext cx="165276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Chart 2" descr=""/>
          <p:cNvPicPr/>
          <p:nvPr/>
        </p:nvPicPr>
        <p:blipFill>
          <a:blip r:embed="rId2"/>
          <a:stretch/>
        </p:blipFill>
        <p:spPr>
          <a:xfrm>
            <a:off x="835200" y="1212840"/>
            <a:ext cx="7553160" cy="4889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30492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otal de MDR isolados por enfermaria em 2012/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228600" y="617220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i considerado apenas o primeiro isolamento de cada MDR por paciente (posterior colonizaçã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www2.unifesp.br/humanas/home/images/misc/unifesp_logo.jpg"/>
          <p:cNvPicPr/>
          <p:nvPr/>
        </p:nvPicPr>
        <p:blipFill>
          <a:blip r:embed="rId1"/>
          <a:stretch/>
        </p:blipFill>
        <p:spPr>
          <a:xfrm>
            <a:off x="7491240" y="5867280"/>
            <a:ext cx="165276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Chart 2" descr=""/>
          <p:cNvPicPr/>
          <p:nvPr/>
        </p:nvPicPr>
        <p:blipFill>
          <a:blip r:embed="rId2"/>
          <a:stretch/>
        </p:blipFill>
        <p:spPr>
          <a:xfrm>
            <a:off x="682560" y="1517760"/>
            <a:ext cx="7473960" cy="450504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838080" y="3808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nsidade de incidência (microrganismos/1000 pct. Dia), em 2012/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www2.unifesp.br/humanas/home/images/misc/unifesp_logo.jpg"/>
          <p:cNvPicPr/>
          <p:nvPr/>
        </p:nvPicPr>
        <p:blipFill>
          <a:blip r:embed="rId1"/>
          <a:stretch/>
        </p:blipFill>
        <p:spPr>
          <a:xfrm>
            <a:off x="7491240" y="5867280"/>
            <a:ext cx="1652760" cy="990720"/>
          </a:xfrm>
          <a:prstGeom prst="rect">
            <a:avLst/>
          </a:prstGeom>
          <a:ln w="0">
            <a:noFill/>
          </a:ln>
        </p:spPr>
      </p:pic>
      <p:sp>
        <p:nvSpPr>
          <p:cNvPr id="77" name="CaixaDeTexto 3"/>
          <p:cNvSpPr/>
          <p:nvPr/>
        </p:nvSpPr>
        <p:spPr>
          <a:xfrm>
            <a:off x="380880" y="106668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HSP apresenta elevada incidência de microrganismos M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s Enterobacteriaceae resistentes aos carbapenêmicos apresentaram incidência maior que os demais microrganismos avaliados em praticamente todas as enfermarias avali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conhecimento da incidência e perfil microbiológico dos microrganismos MDR permite direcionar a terapia empírica dos pacientes admitidos nas enfermarias, podendo reduzir tempo de internação, morbimortalidade e cu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2.unifesp.br/humanas/home/images/misc/unifesp_logo.jpg"/>
          <p:cNvPicPr/>
          <p:nvPr/>
        </p:nvPicPr>
        <p:blipFill>
          <a:blip r:embed="rId1"/>
          <a:stretch/>
        </p:blipFill>
        <p:spPr>
          <a:xfrm>
            <a:off x="7086600" y="5564160"/>
            <a:ext cx="1905120" cy="1141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385920" y="5734080"/>
            <a:ext cx="1366560" cy="895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52480" y="2482920"/>
            <a:ext cx="5639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Obrigad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emilya_souza@hotmail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2.unifesp.br/humanas/home/images/misc/unifesp_logo.jpg"/>
          <p:cNvPicPr/>
          <p:nvPr/>
        </p:nvPicPr>
        <p:blipFill>
          <a:blip r:embed="rId1"/>
          <a:stretch/>
        </p:blipFill>
        <p:spPr>
          <a:xfrm>
            <a:off x="7491240" y="5867280"/>
            <a:ext cx="165276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380880" y="45720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emergência de bactérias patogênicas resistentes à múltiplos antimicrobianos tornou-se um problema de saúde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oucos ou nenhum agente terapêutico dispon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os EUA – mais de dois milhões de casos de adoecimento por bactérias MDR e 23 mil mortes por 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impacto econômico da resistência aos antimicrobianos é difícil de ser calcu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os EUA – cerca de U$ 20 bilhões por ano em custos diretos e cerca de  U$ 35 bilhões por ano em perda de produtividade (custos indire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3733920" y="5943600"/>
            <a:ext cx="350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agiorakos Clin Microbiol Infect 201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18: 268-2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C. Antibiotic Resistance Threats in the US, 2013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2.unifesp.br/humanas/home/images/misc/unifesp_logo.jpg"/>
          <p:cNvPicPr/>
          <p:nvPr/>
        </p:nvPicPr>
        <p:blipFill>
          <a:blip r:embed="rId1"/>
          <a:stretch/>
        </p:blipFill>
        <p:spPr>
          <a:xfrm>
            <a:off x="7491240" y="5867280"/>
            <a:ext cx="1652760" cy="9907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04920" y="83808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ec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ções por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seudomonas aeruginosa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DR e Enterobactérias resistentes aos carbapenêmicos estão associadas com aumento da mortalidade e tempo de internação hospita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fecções de corrente sanguínea secundárias a infecção por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cinetobacter baumannii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sistente aos carbapenêmicos estão associadas com aumento da mort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elevação do tempo de internação ocorre em todos os setores do hospital, o que pode aumentar as oportunidades para transmissão cruzada de microrganismos multirresistentes (MR) entre pacientes colonizados e não colonizados também em enferm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886200" y="6019920"/>
            <a:ext cx="350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Giske AAC 200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52(3): 813-8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C. Antibiotic Resistance Threats in the US, 2013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2.unifesp.br/humanas/home/images/misc/unifesp_logo.jpg"/>
          <p:cNvPicPr/>
          <p:nvPr/>
        </p:nvPicPr>
        <p:blipFill>
          <a:blip r:embed="rId1"/>
          <a:stretch/>
        </p:blipFill>
        <p:spPr>
          <a:xfrm>
            <a:off x="7491240" y="5867280"/>
            <a:ext cx="1652760" cy="99072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1"/>
          <p:cNvSpPr/>
          <p:nvPr/>
        </p:nvSpPr>
        <p:spPr>
          <a:xfrm>
            <a:off x="380880" y="1523880"/>
            <a:ext cx="83822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tudo conduzido por França e colaboradores em oito unidades de terapia intensiva do Hospital São Paulo (HSP) – Unifesp, em 2013, mostrou uma taxa média de incidência anual por 1.000 pacientes/dia de 17,0‰ para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Klebsiella pneumoniae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dutoras de carbapenemase, 9,0‰ para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cinetobacter baumannii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, 3,4‰ para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seudomonas aeruginosa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 2,2‰ para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Enterococcu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spp resistentes à vancom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ixaDeTexto 2"/>
          <p:cNvSpPr/>
          <p:nvPr/>
        </p:nvSpPr>
        <p:spPr>
          <a:xfrm>
            <a:off x="3733920" y="559116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rança, Congresso Paulista de Infectologia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2.unifesp.br/humanas/home/images/misc/unifesp_logo.jpg"/>
          <p:cNvPicPr/>
          <p:nvPr/>
        </p:nvPicPr>
        <p:blipFill>
          <a:blip r:embed="rId1"/>
          <a:stretch/>
        </p:blipFill>
        <p:spPr>
          <a:xfrm>
            <a:off x="7491240" y="5867280"/>
            <a:ext cx="1652760" cy="990720"/>
          </a:xfrm>
          <a:prstGeom prst="rect">
            <a:avLst/>
          </a:prstGeom>
          <a:ln w="0">
            <a:noFill/>
          </a:ln>
        </p:spPr>
      </p:pic>
      <p:sp>
        <p:nvSpPr>
          <p:cNvPr id="55" name="CaixaDeTexto 1"/>
          <p:cNvSpPr/>
          <p:nvPr/>
        </p:nvSpPr>
        <p:spPr>
          <a:xfrm>
            <a:off x="3200400" y="9032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2"/>
          <p:cNvSpPr/>
          <p:nvPr/>
        </p:nvSpPr>
        <p:spPr>
          <a:xfrm>
            <a:off x="533520" y="2730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nalisar o perfil etiológico e a taxa de incidência de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cinetobacter baumannii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(AB)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DR,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seudomona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spp (PS) MDR,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Enterococcu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spp resistentes à vancomicina (VRE) e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Enterobacteriaceae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produtoras de carbapenemase (EC) nas enfermarias de um hospital terciário de ens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2.unifesp.br/humanas/home/images/misc/unifesp_logo.jpg"/>
          <p:cNvPicPr/>
          <p:nvPr/>
        </p:nvPicPr>
        <p:blipFill>
          <a:blip r:embed="rId1"/>
          <a:stretch/>
        </p:blipFill>
        <p:spPr>
          <a:xfrm>
            <a:off x="7491240" y="5867280"/>
            <a:ext cx="1652760" cy="990720"/>
          </a:xfrm>
          <a:prstGeom prst="rect">
            <a:avLst/>
          </a:prstGeom>
          <a:ln w="0">
            <a:noFill/>
          </a:ln>
        </p:spPr>
      </p:pic>
      <p:sp>
        <p:nvSpPr>
          <p:cNvPr id="58" name="CaixaDeTexto 1"/>
          <p:cNvSpPr/>
          <p:nvPr/>
        </p:nvSpPr>
        <p:spPr>
          <a:xfrm>
            <a:off x="2362320" y="3049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Metod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ixaDeTexto 2"/>
          <p:cNvSpPr/>
          <p:nvPr/>
        </p:nvSpPr>
        <p:spPr>
          <a:xfrm>
            <a:off x="284040" y="114948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oi realizada análise retrospectiva de todas as culturas clínicas e swabs positivos das seguintes enfermarias do HSP: Neurocirurgia, Transplante de órgãos sólidos, Transplante de Medula Óssea, Hematologia, Unidade de Queimados, Gastrocirurgia, Gastroclínica, Nefrologia, Urologia, Cirurgia Cardíaca, Clínica Médica, Ortop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oram incluídos apenas pacientes com idade superior a 18 anos, admitidos no  HSP entre Janeiro de 2012 a Dezembro de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s espécies isoladas em hemoculturas foram identificadas em análise microbiológica pelo método automatizado BD VITEK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2.unifesp.br/humanas/home/images/misc/unifesp_logo.jpg"/>
          <p:cNvPicPr/>
          <p:nvPr/>
        </p:nvPicPr>
        <p:blipFill>
          <a:blip r:embed="rId1"/>
          <a:stretch/>
        </p:blipFill>
        <p:spPr>
          <a:xfrm>
            <a:off x="7491240" y="5867280"/>
            <a:ext cx="1652760" cy="990720"/>
          </a:xfrm>
          <a:prstGeom prst="rect">
            <a:avLst/>
          </a:prstGeom>
          <a:ln w="0">
            <a:noFill/>
          </a:ln>
        </p:spPr>
      </p:pic>
      <p:sp>
        <p:nvSpPr>
          <p:cNvPr id="61" name="CaixaDeTexto 2"/>
          <p:cNvSpPr/>
          <p:nvPr/>
        </p:nvSpPr>
        <p:spPr>
          <a:xfrm>
            <a:off x="457200" y="114300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s amostras com perfil fenotípico que sugerissem produção de carbapenemase tiveram confirmação do resultado p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oram considerados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cinetobacter baumannii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DR as amostras não susceptíveis a um agente ou mais em 3 ou mais diferentes categorias de antimicrobia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oram considerados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seudomonas spp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DR as amostras não susceptíveis a um agente ou mais em 3 ou mais diferentes categorias de antimicrobia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"/>
          <p:cNvSpPr/>
          <p:nvPr/>
        </p:nvSpPr>
        <p:spPr>
          <a:xfrm>
            <a:off x="2438280" y="36504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Metod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2.unifesp.br/humanas/home/images/misc/unifesp_logo.jpg"/>
          <p:cNvPicPr/>
          <p:nvPr/>
        </p:nvPicPr>
        <p:blipFill>
          <a:blip r:embed="rId1"/>
          <a:stretch/>
        </p:blipFill>
        <p:spPr>
          <a:xfrm>
            <a:off x="7491240" y="5867280"/>
            <a:ext cx="1652760" cy="990720"/>
          </a:xfrm>
          <a:prstGeom prst="rect">
            <a:avLst/>
          </a:prstGeom>
          <a:ln w="0">
            <a:noFill/>
          </a:ln>
        </p:spPr>
      </p:pic>
      <p:sp>
        <p:nvSpPr>
          <p:cNvPr id="64" name="CaixaDeTexto 2"/>
          <p:cNvSpPr/>
          <p:nvPr/>
        </p:nvSpPr>
        <p:spPr>
          <a:xfrm>
            <a:off x="457200" y="114300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oram considerados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Enterococcus spp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sistentes à vancomicina e ampici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oram consideradas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Enterobacteriaceae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MDR as amostras não susceptíveis a um agente ou mais em 3 ou mais diferentes categorias de antimicrobianos (entre aminoglicosídeos, cefalosporinas, penicilinas com ação anti-Pseudomonas associadas a inibidores de beta lactamases, carbapenêmicos, fluorquinolonas, inibidores do metabolismo do folato, glicilcicli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ixaDeTexto 1"/>
          <p:cNvSpPr/>
          <p:nvPr/>
        </p:nvSpPr>
        <p:spPr>
          <a:xfrm>
            <a:off x="2438280" y="44136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Metod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2.unifesp.br/humanas/home/images/misc/unifesp_logo.jpg"/>
          <p:cNvPicPr/>
          <p:nvPr/>
        </p:nvPicPr>
        <p:blipFill>
          <a:blip r:embed="rId1"/>
          <a:stretch/>
        </p:blipFill>
        <p:spPr>
          <a:xfrm>
            <a:off x="7491240" y="5867280"/>
            <a:ext cx="1652760" cy="990720"/>
          </a:xfrm>
          <a:prstGeom prst="rect">
            <a:avLst/>
          </a:prstGeom>
          <a:ln w="0">
            <a:noFill/>
          </a:ln>
        </p:spPr>
      </p:pic>
      <p:sp>
        <p:nvSpPr>
          <p:cNvPr id="67" name="CaixaDeTexto 1"/>
          <p:cNvSpPr/>
          <p:nvPr/>
        </p:nvSpPr>
        <p:spPr>
          <a:xfrm>
            <a:off x="3352680" y="4572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2"/>
          <p:cNvSpPr/>
          <p:nvPr/>
        </p:nvSpPr>
        <p:spPr>
          <a:xfrm>
            <a:off x="457200" y="114300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oram analisadas 378 amostras de 333 pacientes admitidos no HSP no ano de 2012 e 726 amostras de 556 pacientes admitidos em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as 378 amostras de 2012, 79 (20,9%) eram AB, 90 (23,8%) eram PA, 43 (11,4%) eram VRE e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166 (43,9%)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ram 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as 726 amostras referentes ao ano de 2013, 118 (16,25%) eram AB, 155 (21,3%) eram PA, 83 (11,4%) eram VRE e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(51%)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ram 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23:31:19Z</dcterms:created>
  <dc:creator>Home</dc:creator>
  <dc:description/>
  <dc:language>en-US</dc:language>
  <cp:lastModifiedBy>Emília</cp:lastModifiedBy>
  <dcterms:modified xsi:type="dcterms:W3CDTF">2014-11-21T08:32:57Z</dcterms:modified>
  <cp:revision>24</cp:revision>
  <dc:subject/>
  <dc:title>Incidência de bactérias multirresistentes em enfermarias de um hospital terciário de ensino em São Paulo</dc:title>
</cp:coreProperties>
</file>